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ED9-A922-495A-83C9-AEE1604C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C9E-0588-4080-80E7-9B72DF11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08F70-49EA-4A07-B6FC-C2CC6B26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7EF99-320A-4CDE-A12E-E331123F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61093-5DC3-4E53-B443-7B08BAFB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805FD-6E5D-4D21-9715-0957F951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45A44-1332-4D1D-9B7F-4F397DE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6817A-5749-4116-93ED-FBB5AC9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1EE48-1892-45FB-9A9E-EF74779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48DE-DC64-4BE8-9F8A-CC345C5F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11116-3636-4DC1-BD4F-BD477C5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C442E-B6E2-4CD4-A90C-CE73584D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399-BF70-4DCE-9EF8-3A6AE090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67B4A-99C3-4076-83FA-AB39E42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6128C-10EF-45B0-8B65-B14FBD07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B860A-5835-40E9-9944-00D36EE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E7663-F7BB-402C-BF0E-27C8683B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88BD5-6DB9-4A30-B0C6-AEB0B05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31B96-9F7C-46BF-973D-BAFD3FC3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67291-9CCB-492E-BC6C-7751A6F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AE2FC-0CC1-4AAF-814E-92F3B37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0B886-95C0-4B38-811D-86F76410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CFCC-88C5-41E6-94D4-1078AB80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6ED-DB2E-4769-B918-E1422743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30A1-F750-48CF-9265-D39FC42B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4C47-26B0-4BE7-A51C-1C322217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C5C67-6CB6-46F3-A316-A18BA1C8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BB47-7B38-4D56-A899-2B66AA2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23C9-7849-4B76-A90B-B06DDA6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3184-65FF-4763-9162-4175E4C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53CB4-7694-44B2-BEA5-12388B79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AA2AA-3D39-4A9D-9E2D-5679106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4820-D854-44E9-BFE9-0ABD7C8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807B6-E759-473D-8461-DE1C253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A8C8-726F-455F-A808-C386DDDD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1C322-9BC7-479D-932F-735B276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01A5-884B-48E7-BD8F-89A80DEB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6ED5-F3A6-4D70-B8B0-1688D625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1108F-46CC-4A41-B4F2-80D42DAB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A6400-64EA-4CFA-8824-945B16E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D2104-4DA7-40F2-9987-8137079D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FCAC-742B-46F5-96F4-124B075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ACDB-D3A3-4438-AEA1-12FA4F3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A1D98-B3E1-4E46-8B99-DF9F725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55E3-C5DA-4560-B0CA-DECDA82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BD7-DC83-4074-9213-1ED4C371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82D05-F006-405D-BCE6-CAA62E0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94823-3884-4259-A145-6464BE4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28D36-8D95-40C1-94AD-4FCE2DF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D8901-B734-4C3F-BE55-57231C0C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5F4FD-48DB-4731-AF15-BC942A4D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1CB2C-575F-4CFE-8874-14D16212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11CBA-1F9A-452F-845A-4D7751DF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629DC-EE68-43B6-A949-6C869C5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4601F-D841-4CAE-962B-7F66E9A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81E4C-975F-436D-886F-5D19719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1F4-4D0E-4DAF-A1DA-F71C7A9D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00C99-D9FD-4DBE-BB04-8ACFC1B5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5C4D5-03CE-48F2-A752-A5F59EB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9C070-184B-4FBB-94CA-FCD65CD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86BB9-67B3-4173-B899-D208659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2893A-A880-4BE2-8B92-563588E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E4FB9-08C4-4199-8210-951877D7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C8912-8E99-4587-AB8C-ECB7FD57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D7063-5DEA-4457-813C-349B655B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D9492-2B71-4FE5-9E30-1252D4A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FCE55-C807-4941-978C-F17434C4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0F25-B50C-4900-A9C7-FD73FFC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F25B8-3F4F-4A79-BA65-B8E1BA5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FFCFE-236E-4E61-9AEF-9908DF9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B4525-D8E9-4188-860A-8E33F3E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B472C-8532-4713-A8B5-FBE2BC0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C39D4-B13C-417F-A086-9AA0681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47C2D-1B5B-4FA1-899F-FFB46C9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253AB-CCC5-47AA-A777-1CC55D81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7DF0A-3E9B-46AC-94B3-801A18AC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70B92-A322-4277-B301-C0DF22C5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C4DD5-4B19-421B-AB50-94F96F1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2EE3-6931-4370-A704-34210C5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BEAF1-C6D1-47C4-8EDA-EFBA296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A1A6D-B4C8-4567-B8D3-1E8294F7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4ADC3-0DE3-4858-B562-4284EC6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99B5D-73F8-44EB-94A8-335BE07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48DA3-8840-4D9D-922D-F2C1F96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14812-CEC7-4BFF-9928-39ED5CD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D06F8-9FC5-420B-86E0-B6F59B2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DC2EF-927A-42ED-A766-93690F9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A9626-41E8-4090-A0CB-F12018C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CD544-AD84-4E77-AF24-7B100293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7D7-FDC8-48B0-9258-9501F10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FCF92-5828-418C-9C77-258B47CD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76B2D-BB22-4D58-A8BB-FE57CC4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D0C16-E250-4577-81F7-4F2B0869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DBF9E-0D44-460B-BD8F-C956BE1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4158B-A80E-47EF-B496-4AC4AC2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B7CEC-AC27-4BA1-8A96-7C517F7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21B1A-849F-4461-A931-61C4154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DD22A-374E-4769-A7A7-036BFC4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2C71A-D3F6-4E6B-853F-D148145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D3DFC-4566-4A4D-9AF3-E4FE271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659D-97E9-4369-AD93-2575EA6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F9C01-5317-403B-962D-F8A863DC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9D07C-E3FE-4229-A69D-65A2348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4AFCF-4651-4EEC-AB52-CD3729A1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E3B65-AFF4-4489-823C-7D61AC5C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ACA9E-0315-4422-B3B8-702E4CD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5AB30-9642-4455-9223-A4D1D0B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32758-8A45-402E-8D52-420D57D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56F98-CA04-4EA9-BAA2-E37070D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02953-11B6-4A5D-8ED6-F69F47B5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1073F-6FDB-41AA-B723-2978879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B4D-72B8-4B9D-9E5D-B3241FF5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E407-2D3E-43FA-9677-BCFFE1FE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5F7B9-0B40-45EA-BECA-3E0B7A0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BE4AF-807F-4B40-9319-9ECE4EEA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DFDE7-76E0-4DF4-9498-1D630D96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768BE-BC7C-4432-A5D5-98D629D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20077-0497-4527-89BC-F6A1105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0FAD6-2AD0-4572-BE6E-2BD71F0C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CEAFB-DB6A-4E5E-B4B7-8048435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E1FCE-F12D-4679-8A80-FA12B86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3DF75-3489-49D4-8156-2370E7C9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36CBE-2B01-4DB5-81D5-F51AD30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47E8-C22E-423F-A675-395D02D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4A213-F089-46E2-987C-3ACA9F4E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20A22-084F-46B6-9080-98F1606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F6EAE-7754-44BA-A190-AA171A0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E8E45-06AB-45D7-88C2-98C829B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7C148-7ADF-4B53-ADA3-86CCE51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3684C-8B6B-4C86-886A-4F4487DB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D419F-E87A-43EB-8458-02069DC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4BCF6-2DE0-45F9-A139-CD85D23D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A56F2-412F-47B2-9D97-B19FFF00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E048B-BB60-40C3-A7A5-0BFE1E9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81A5-D663-4044-89BD-5F28038F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D2728-7A93-4FC3-AECC-D03EC25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60386-D1D6-4DC6-AD64-56E9354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DCF5D-95BC-47AA-84EA-A4DD819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0B6427-1EFF-4A74-8256-73F13E9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105A2-6C6E-410A-9D18-FC87E9A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A75C2-3670-4F1D-9566-C3A097A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73E04-4321-4BE6-ABF0-EBA30649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76EB2-9F89-417C-9BB5-43DF8428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CCF17-6D67-45A7-9913-72D297AE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D610A-FA16-45E8-99FD-6039CDC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59A-6848-4461-976B-2108D45E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8E436-648A-4326-AFC3-9A6C9808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BB279-1E02-4C53-908A-CE092670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A9585-B03F-4F16-AD9A-3D2AD58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837DD-7BBB-4F79-9107-463E80A6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F310D-8F15-4E3B-BCC9-D86D32A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BF1C3-139B-4A2D-9AF9-19E6A44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88E88-D595-4E9C-819B-D4B43F1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FAA68-04AA-4191-8E8F-CEBD923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9EDE4-A2C9-4C02-A2F8-08639E6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6E05D-B77F-431A-B9FF-BF22DF3A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51B3-7152-4322-8614-4A47237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202D3-073C-42C3-84BC-73231907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867E8-E121-4C8E-A126-BAD9B37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18EB5-163E-4EE3-942C-1B6A87F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8CD80-5DCC-49C6-A939-1D680D40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55DAB-BDBF-4C32-895A-A8B28989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EAAAC-D191-4676-B4C7-5B90607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483D0-4393-4EFD-94A4-F3F2A6DA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528A9-C0BB-4A63-92B1-782BC75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B237D-649C-4E0A-9C44-F20BE2F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09F73-C0A1-46B4-ADFE-CFF5C98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3244-DCC4-4064-BDF5-18C57F7D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E8464-0B51-4F71-A668-AB67D8A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40D269-7DCB-42AD-BFB8-417D207E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EEB8B-6431-4ABA-BAFC-40C522D3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FD68E1-B137-45DB-8647-BB439BA5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1EEF3D-1949-404E-A8F3-18DD980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F7960-1E15-41AC-B6B1-111C4AA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46DC50-5A5F-40AF-A8A8-E5E69C5F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E9675-5344-4737-AE85-AD0374F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3B8E7-81BC-4D82-8DA5-45D2AAA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CA089-2983-4D02-A151-13B39E5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4C27-10F0-4974-9407-1E32F87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C1E67-9F30-4509-831E-6C9E772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EBE369-0E09-4342-A0CD-FF02871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8435C-76C8-4644-BC7A-0AB1C40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BF282-3B8B-4D3F-A42C-B0050151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A4F04-237E-491C-8A30-2532907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D2B5-FEC2-4FA8-A15A-249A1BD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3277-A427-4C4D-8030-25E261D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F74B-8DEF-47E7-A4AF-FA9FFE0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938-62C9-4600-8205-0CAE3AE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978A-2189-429A-BA29-5C24E762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D6A9-CF5E-457B-90A8-14E90EE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71AD-3E8B-4F14-91FD-C8AED06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5F27-9887-4C74-8FD4-108522A0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CA2F-6F6C-4965-8701-EC97CC7C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480C-38B0-47C2-931C-F290FBB8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C06B-BED6-42C4-99D2-5B2B05A1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A38E-1DD9-4B31-83C6-C07D81FA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9372-4686-49F6-9095-067991AC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5371-D7C1-43D9-BF35-6A5045A9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445-E790-463E-A4D6-1B84ABE9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42AD-094F-4B1F-9129-FB3B57A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C5C0-506B-4834-A691-21A23F18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86B8-3A63-4FC4-96DA-3088E3CD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C684-A3F4-4A57-B431-61636E1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8FD9-7ECA-4C92-8984-A80063E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EA28-3BF9-4EFB-A20A-CE7D5607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AAB0-CBAE-4C62-B0A5-1F87BD5A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4CB1-06D3-417F-9D2A-676AC29F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2CC6-18B1-4FAC-BE03-2716CA73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316D-95FB-4E1F-9CA6-FD154296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6CF-CF08-49AA-8BFD-D8FDCFB9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0F76-456C-49CF-88CC-45E30A6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AE93-F044-429F-B4FC-55EEFA5F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A4EB-11A9-422B-AD66-1952962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D16E1-0FA8-4E4C-AC43-346D11AA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DF81-F179-4E29-9EB6-276C71C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C348-D45B-40F0-925F-9983BAA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7807-3D26-49C0-B63F-1DB930C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FE70-CBAF-4652-B8F5-8BA9F0B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77CD-66E5-4616-BF16-CA2A260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3C5EB-E8C2-4AB8-88B9-34EDABDA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E2D-05FF-4A5B-968A-BDA8EC7B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A982-7484-46A7-8DD8-C4FEA72D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C3A87-0CEE-4C38-A745-4CC189EA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ED59F-F39E-43B3-9645-C17036D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D5651-71CE-46B6-AF02-03FBBA0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8C25D-C04F-4720-A1D8-BCE48E4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209F1-CFC6-42F6-849F-2792EDD0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4AE67-214A-43E3-95BE-D4C765AA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AE905-82A1-41C3-BE67-7D03C3C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387DB-E692-4B81-9BA8-71F1E1E5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53842-E7FC-4276-8FA3-C332F1E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8D7-66B4-4181-8BBD-0797A1D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E4EC5-5069-4E33-9CD2-1EBA8C4D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2E41A-8AD2-4F2A-857A-AEBA9FAF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F7621-BC8A-4029-990C-812F8381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3C46A-4EF6-4731-93C8-1A183992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E8DE-462B-4D54-B829-9CC11FD2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6166-0AA7-42D1-862C-E2B0D36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E12F-8E30-4C18-8D16-1DD284B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9BD2-846E-48BC-A60B-F47E9588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8A03-9D46-4204-8EB7-AFAAADD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A5A49-55EA-4964-931B-CD3652B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B61-5C5C-431B-A486-3CB8414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BCA9-1366-4A46-9709-DE5949B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B094-E4CC-40EB-8655-4E3B5D3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35C27-5B8A-45CD-8180-1CC13666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0C8D4-493B-4095-B722-59210ABC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4046-DA17-4F8A-8EB4-1B18FD21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E1E4-074C-4144-B875-37B6E00B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5F69-4D67-4B26-B4A3-66DDDA9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21D0-4260-45B5-A8CD-ECFFD7D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2930-FA59-4AE7-A313-1CAB5CD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3C30-6FA4-4945-AE60-E70C4694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511-0FBE-4DBF-BE3D-5976419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94266-E301-461F-9BD7-12BBE92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C6361-27B2-4790-AFC9-DC4EFFC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E9D1-743A-4C1A-A807-D90D1DC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09E9-4043-4E7D-9953-560F4B2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CE17-4380-4626-AE3B-10D9E13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26361-F94E-42FE-BA12-7C3CD3B5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CD61-0A09-4976-B1C6-D453973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7FFB-82CB-41E3-BDA0-F3561A94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D73EF-4A58-4560-AF7A-DB92FF8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481F-5818-4249-B403-E470A45A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2DF-E5B9-44EE-B17D-BC992BA77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E5E9-9AD3-42EE-ADE2-67E045955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BBF-05FA-4149-BD4C-4D8BD74D5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99F-0583-4C20-AD53-794119E8D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CC6-ED0C-4E90-AFDA-7CE8AFB57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0C21-B3C6-4185-8F6D-59D09DB1F4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CBC-60BF-4410-8E40-5A383C6B4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6774-0AC6-45AC-8916-6A05DA1DA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B3F-C375-44C1-A4C8-CC99FC480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F7A-8045-4B64-A847-5E8C47140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796-019A-4426-86C9-27B3E5B13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EAF-4DD1-4A2F-8CC0-6C95DBDB4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ACF-15DE-4D50-9A5F-7B34E0903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CEAA-84A2-4A6D-82E5-5CECA5025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A2C-5B58-4663-A491-6FE796A22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1D7-3ABF-4723-B3D1-4696F9A13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4147-81C7-4A79-B37A-E6AE0F4D1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60F0-7A64-408E-BB16-07710DA967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C0B0-219E-488B-A059-6BDF188F1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A7A-DEA0-4F3D-B3D2-A6ED24C3F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F53-AD10-454E-A2F1-F033386AB5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72F-C202-4CF4-822F-7B9E2348DA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CC87-0CC6-447E-9A69-9272BBC60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34DD-C6AA-4752-A8C1-FC6BE9EEF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C106-4FA1-4B28-9308-523818725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093-E2D3-4941-9EF0-5327479FD2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D67-46A0-49FA-8A0D-7456D9224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635-1C87-468F-AD77-98A4B4140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C8B-2218-48D3-B3BC-D44F6BFD2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F3FF-68A5-48CB-8BD5-2859DA6E9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2012-B9DF-4FE9-9E97-B54EDBC75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C332-2219-4FD3-BD23-59B838A1A4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0A6-CE58-45C2-BC11-DF74A651D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292-99F7-47D1-B537-F824581DE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82D-D8D9-4317-93A8-A58BAA07D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86B0-D42F-476B-AC51-E54EE3C0E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DB5-7EB1-44CC-82E3-6D56EC88A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E8BD-EBB8-4847-81FF-83E45A2CB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F6C-F6D9-4DF4-AF2A-B4D56D48C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B24-6604-4C68-B7D2-532CE20CE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725"/>
          <p:cNvPicPr/>
          <p:nvPr/>
        </p:nvPicPr>
        <p:blipFill>
          <a:blip r:embed="rId1"/>
          <a:stretch/>
        </p:blipFill>
        <p:spPr>
          <a:xfrm>
            <a:off x="163440" y="2381400"/>
            <a:ext cx="8850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47600" y="1928880"/>
            <a:ext cx="8848800" cy="30002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84360" y="2766960"/>
            <a:ext cx="6408720" cy="31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6408720" cy="318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6408720" cy="31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611280" y="3933720"/>
            <a:ext cx="6408720" cy="319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611280" y="4307040"/>
            <a:ext cx="6408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43000" y="2214720"/>
            <a:ext cx="8658000" cy="2428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6985080" cy="318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698508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611280" y="3730680"/>
            <a:ext cx="712944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554040" y="4135320"/>
            <a:ext cx="71294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85760" y="912960"/>
            <a:ext cx="8772480" cy="55432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84360" y="1741320"/>
            <a:ext cx="6264000" cy="319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539640" y="2147760"/>
            <a:ext cx="6264360" cy="3193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39720" y="2565360"/>
            <a:ext cx="6264360" cy="3189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1280" y="2895480"/>
            <a:ext cx="6264360" cy="31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486900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611280" y="52293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582480" y="558972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539640" y="60213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16394" descr=""/>
          <p:cNvPicPr/>
          <p:nvPr/>
        </p:nvPicPr>
        <p:blipFill>
          <a:blip r:embed="rId10"/>
          <a:stretch/>
        </p:blipFill>
        <p:spPr>
          <a:xfrm>
            <a:off x="7093080" y="1730520"/>
            <a:ext cx="1895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0160" y="1771560"/>
            <a:ext cx="8743680" cy="3314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6480000" cy="3189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6480000" cy="318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6480000" cy="318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468360" y="3716280"/>
            <a:ext cx="6480000" cy="3193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6480000" cy="3193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468360" y="4522680"/>
            <a:ext cx="648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237960" y="1900080"/>
            <a:ext cx="8668080" cy="30578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468360" y="274968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7272360" cy="319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7272360" cy="3193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6"/>
          <a:stretch/>
        </p:blipFill>
        <p:spPr>
          <a:xfrm>
            <a:off x="423720" y="4292640"/>
            <a:ext cx="7272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8160" y="1333440"/>
            <a:ext cx="9067680" cy="4191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020000" y="171468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411280" y="204624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6659640" y="206064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4643280" y="242100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3203640" y="273672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579600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2340000" y="34290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7020000" y="3789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5508720" y="41054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7236000" y="4119480"/>
            <a:ext cx="865080" cy="319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3"/>
          <a:stretch/>
        </p:blipFill>
        <p:spPr>
          <a:xfrm>
            <a:off x="1547640" y="518652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66680" y="1666800"/>
            <a:ext cx="8810640" cy="3524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399564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4643280" y="3357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349236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1835280" y="47973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38160" y="1952640"/>
            <a:ext cx="9067680" cy="2952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838836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8388360" y="25938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8386920" y="2997360"/>
            <a:ext cx="36180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8373960" y="3313080"/>
            <a:ext cx="36216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6"/>
          <a:stretch/>
        </p:blipFill>
        <p:spPr>
          <a:xfrm>
            <a:off x="8388360" y="3716280"/>
            <a:ext cx="3618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61920" y="1300320"/>
            <a:ext cx="9020160" cy="425736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2" descr=""/>
          <p:cNvPicPr/>
          <p:nvPr/>
        </p:nvPicPr>
        <p:blipFill>
          <a:blip r:embed="rId2"/>
          <a:stretch/>
        </p:blipFill>
        <p:spPr>
          <a:xfrm>
            <a:off x="61920" y="5245200"/>
            <a:ext cx="2170080" cy="933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3780000" y="1916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586728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843280" y="3429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7"/>
          <a:stretch/>
        </p:blipFill>
        <p:spPr>
          <a:xfrm>
            <a:off x="4500720" y="465300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247680" y="905040"/>
            <a:ext cx="8648640" cy="504792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2"/>
          <a:stretch/>
        </p:blipFill>
        <p:spPr>
          <a:xfrm>
            <a:off x="6862680" y="654120"/>
            <a:ext cx="2189160" cy="530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5364000" y="1714680"/>
            <a:ext cx="100836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6804000" y="220500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3492360" y="2637000"/>
            <a:ext cx="100836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2736720" cy="3193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7"/>
          <a:stretch/>
        </p:blipFill>
        <p:spPr>
          <a:xfrm>
            <a:off x="611280" y="5013360"/>
            <a:ext cx="27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8"/>
          <a:stretch/>
        </p:blipFill>
        <p:spPr>
          <a:xfrm>
            <a:off x="539640" y="5343480"/>
            <a:ext cx="27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9"/>
          <a:stretch/>
        </p:blipFill>
        <p:spPr>
          <a:xfrm>
            <a:off x="539640" y="5661000"/>
            <a:ext cx="27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10"/>
          <a:stretch/>
        </p:blipFill>
        <p:spPr>
          <a:xfrm>
            <a:off x="3922560" y="475452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11"/>
          <a:stretch/>
        </p:blipFill>
        <p:spPr>
          <a:xfrm>
            <a:off x="3851280" y="508464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2"/>
          <a:stretch/>
        </p:blipFill>
        <p:spPr>
          <a:xfrm>
            <a:off x="3851280" y="540216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3"/>
          <a:stretch/>
        </p:blipFill>
        <p:spPr>
          <a:xfrm>
            <a:off x="6622920" y="4724280"/>
            <a:ext cx="2413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1280" y="1447920"/>
            <a:ext cx="9001440" cy="39621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800000" cy="3193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1800000" cy="3193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1800000" cy="318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5"/>
          <a:stretch/>
        </p:blipFill>
        <p:spPr>
          <a:xfrm>
            <a:off x="324000" y="4508640"/>
            <a:ext cx="23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6"/>
          <a:stretch/>
        </p:blipFill>
        <p:spPr>
          <a:xfrm>
            <a:off x="324000" y="4795920"/>
            <a:ext cx="23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7"/>
          <a:stretch/>
        </p:blipFill>
        <p:spPr>
          <a:xfrm>
            <a:off x="324000" y="5084640"/>
            <a:ext cx="23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8"/>
          <a:stretch/>
        </p:blipFill>
        <p:spPr>
          <a:xfrm>
            <a:off x="2987640" y="3573360"/>
            <a:ext cx="25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9"/>
          <a:stretch/>
        </p:blipFill>
        <p:spPr>
          <a:xfrm>
            <a:off x="2987640" y="3860640"/>
            <a:ext cx="25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10"/>
          <a:stretch/>
        </p:blipFill>
        <p:spPr>
          <a:xfrm>
            <a:off x="2987640" y="41497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11"/>
          <a:stretch/>
        </p:blipFill>
        <p:spPr>
          <a:xfrm>
            <a:off x="5724360" y="3573360"/>
            <a:ext cx="3240360" cy="319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2"/>
          <a:stretch/>
        </p:blipFill>
        <p:spPr>
          <a:xfrm>
            <a:off x="5724360" y="3860640"/>
            <a:ext cx="3240360" cy="3193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3"/>
          <a:stretch/>
        </p:blipFill>
        <p:spPr>
          <a:xfrm>
            <a:off x="5724360" y="4149720"/>
            <a:ext cx="3240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图片 1" descr=""/>
          <p:cNvPicPr/>
          <p:nvPr/>
        </p:nvPicPr>
        <p:blipFill>
          <a:blip r:embed="rId1"/>
          <a:stretch/>
        </p:blipFill>
        <p:spPr>
          <a:xfrm>
            <a:off x="38160" y="1514520"/>
            <a:ext cx="9067680" cy="382896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2290" descr=""/>
          <p:cNvPicPr/>
          <p:nvPr/>
        </p:nvPicPr>
        <p:blipFill>
          <a:blip r:embed="rId2"/>
          <a:stretch/>
        </p:blipFill>
        <p:spPr>
          <a:xfrm>
            <a:off x="1677960" y="2825640"/>
            <a:ext cx="6134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图片 1" descr=""/>
          <p:cNvPicPr/>
          <p:nvPr/>
        </p:nvPicPr>
        <p:blipFill>
          <a:blip r:embed="rId1"/>
          <a:stretch/>
        </p:blipFill>
        <p:spPr>
          <a:xfrm>
            <a:off x="73080" y="1808280"/>
            <a:ext cx="8997840" cy="3240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056360" cy="318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7056360" cy="3189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705636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5"/>
          <a:stretch/>
        </p:blipFill>
        <p:spPr>
          <a:xfrm>
            <a:off x="684360" y="414972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6"/>
          <a:stretch/>
        </p:blipFill>
        <p:spPr>
          <a:xfrm>
            <a:off x="684360" y="4508640"/>
            <a:ext cx="7200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38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